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450C-B2C5-46BA-B004-54283A830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15C7-5437-417E-ADBC-4132110EE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C6F-BA46-48EF-8CCE-2C14DBD6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1BC-66E6-4A94-8BBD-0B2B406A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E54-51A4-4972-AE36-DEAABFB4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AFE-44AD-4A3A-8B95-E468D3FE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C454-E8E7-4F93-9B4D-EE910BF3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D9AD-CECE-4E66-A694-8CACC8A2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72D7-A575-4221-8EFD-66A31B45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DD7B-F88A-40AF-BB2C-7709AA6D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0851-7838-458A-A0D6-45907719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770D-A213-42D9-ABC9-2520577D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F7DE-6804-4FB0-8523-7380DC70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5C3-9CBD-44C8-8C81-E4BAAC22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618D-E3B0-4EB1-8695-BC88A526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9D57-E6A5-4600-A7C1-EB24E45C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7A51-154E-48AB-8331-EC6B885E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F4D9-CCE7-4328-8FBF-2FF6E37E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FD0F-F788-4748-BBC6-C8B49DD5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A04-15BD-47CE-8721-2763F906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399-A0B2-40B9-8457-9ACB7D8D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A8A-4DF9-433E-B399-06DF59FB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2B8-E631-45B6-8408-0FCB3D19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A2B-F34A-4C3E-9396-2BBA4276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25E-175C-4122-902A-22584F58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C5A-17CD-4477-BC84-D2C939A8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3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595F-9E9E-4128-99C1-4C563EB08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mboo"/>
          <p:cNvPicPr/>
          <p:nvPr/>
        </p:nvPicPr>
        <p:blipFill>
          <a:blip r:embed="rId3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593A-299A-41EB-8031-1C2C086AF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982800"/>
            <a:ext cx="746748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omework Bell Ring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ian Empire called the Gupta inven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at type of 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s represented by this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Image result for algebra images"/>
          <p:cNvPicPr/>
          <p:nvPr/>
        </p:nvPicPr>
        <p:blipFill>
          <a:blip r:embed="rId1"/>
          <a:stretch/>
        </p:blipFill>
        <p:spPr>
          <a:xfrm>
            <a:off x="3505320" y="3314880"/>
            <a:ext cx="4610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0306M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2.bp.blogspot.com/_ieL3qUh9yBM/S1alZVqIUbI/AAAAAAAAAe4/o-Y5mMdvfPE/s400/edicts_asoka-227x300.jpg"/>
          <p:cNvPicPr/>
          <p:nvPr/>
        </p:nvPicPr>
        <p:blipFill>
          <a:blip r:embed="rId1"/>
          <a:stretch/>
        </p:blipFill>
        <p:spPr>
          <a:xfrm>
            <a:off x="542880" y="312840"/>
            <a:ext cx="288612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3814920" y="1676520"/>
            <a:ext cx="32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ify emp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reated system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ws (Edicts of Ashok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protect sick, unarmed and helpless.  Provide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t sto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ravelers.  Buil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pit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ircuit magistrates for resolving disputes throughout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http://upload.wikimedia.org/wikipedia/commons/8/80/GRE6-8.jpg"/>
          <p:cNvPicPr/>
          <p:nvPr/>
        </p:nvPicPr>
        <p:blipFill>
          <a:blip r:embed="rId2"/>
          <a:stretch/>
        </p:blipFill>
        <p:spPr>
          <a:xfrm>
            <a:off x="380880" y="4122720"/>
            <a:ext cx="3048120" cy="2562120"/>
          </a:xfrm>
          <a:prstGeom prst="rect">
            <a:avLst/>
          </a:prstGeom>
          <a:ln w="0">
            <a:noFill/>
          </a:ln>
        </p:spPr>
      </p:pic>
      <p:sp>
        <p:nvSpPr>
          <p:cNvPr id="132" name="5-Point Star 1"/>
          <p:cNvSpPr/>
          <p:nvPr/>
        </p:nvSpPr>
        <p:spPr>
          <a:xfrm>
            <a:off x="3581280" y="115920"/>
            <a:ext cx="1752840" cy="1143000"/>
          </a:xfrm>
          <a:custGeom>
            <a:avLst/>
            <a:gdLst/>
            <a:ahLst/>
            <a:rect l="l" t="t" r="r" b="b"/>
            <a:pathLst>
              <a:path w="1752600" h="1143000">
                <a:moveTo>
                  <a:pt x="2" y="436586"/>
                </a:moveTo>
                <a:lnTo>
                  <a:pt x="669437" y="436589"/>
                </a:lnTo>
                <a:lnTo>
                  <a:pt x="876300" y="0"/>
                </a:lnTo>
                <a:lnTo>
                  <a:pt x="1083163" y="436589"/>
                </a:lnTo>
                <a:lnTo>
                  <a:pt x="1752598" y="436586"/>
                </a:lnTo>
                <a:lnTo>
                  <a:pt x="1211011" y="706410"/>
                </a:lnTo>
                <a:lnTo>
                  <a:pt x="1417882" y="1142997"/>
                </a:lnTo>
                <a:lnTo>
                  <a:pt x="876300" y="873168"/>
                </a:lnTo>
                <a:lnTo>
                  <a:pt x="334718" y="1142997"/>
                </a:lnTo>
                <a:lnTo>
                  <a:pt x="541589" y="706410"/>
                </a:lnTo>
                <a:lnTo>
                  <a:pt x="2" y="436586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owards Collaps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 5. Decline of Mauryan Empire&lt;br /&gt;Economic crisis after Ashoka’s death&lt;br /&gt;High costs of bureaucracy, military not suppo..."/>
          <p:cNvPicPr/>
          <p:nvPr/>
        </p:nvPicPr>
        <p:blipFill>
          <a:blip r:embed="rId1"/>
          <a:stretch/>
        </p:blipFill>
        <p:spPr>
          <a:xfrm>
            <a:off x="-23760" y="-517680"/>
            <a:ext cx="9167760" cy="7086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-24120" y="5867280"/>
            <a:ext cx="9320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ligions are symptoms of collapse – Buddhism – he neglected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eighbors did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30481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What defines a golden 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76640" y="2819160"/>
            <a:ext cx="3695760" cy="327636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4" descr=""/>
          <p:cNvPicPr/>
          <p:nvPr/>
        </p:nvPicPr>
        <p:blipFill>
          <a:blip r:embed="rId2"/>
          <a:stretch/>
        </p:blipFill>
        <p:spPr>
          <a:xfrm>
            <a:off x="1206360" y="1371600"/>
            <a:ext cx="637704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60480"/>
            <a:ext cx="746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Impact"/>
              </a:rPr>
              <a:t>Political – Gupta </a:t>
            </a:r>
            <a:r>
              <a:rPr b="0" lang="en-US" sz="3600" spc="-1" strike="noStrike">
                <a:solidFill>
                  <a:srgbClr val="003300"/>
                </a:solidFill>
                <a:latin typeface="Impact"/>
              </a:rPr>
              <a:t>(320 CE – 550 CE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ritory than Mauryan – could not hold onto something that b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centralized power -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trol based on local lords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d tribute to keep aut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ous alliances and military conquests created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litical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pse - 450 CE northern invaders brought empire to slow end (sam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unas – White Hu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the Xiongnu Huns from Mongolia to Caucasus from N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029200" y="1440000"/>
          <a:ext cx="42498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0000"/>
                    <a:ext cx="4249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7"/>
          <p:cNvSpPr/>
          <p:nvPr/>
        </p:nvSpPr>
        <p:spPr>
          <a:xfrm>
            <a:off x="2552760" y="5911920"/>
            <a:ext cx="441972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litical diversity and reg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Impact"/>
              </a:rPr>
              <a:t>Economic - 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vigorous trade – surpassing Mediterranean and Chinese – major middle men between East and West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tton was largest industry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outhern India there were small colonies of Romans, Jews, Arabs, and Nestorian Christians from Syria and Persia (gold, slaves, glass, Egyptian cloth, Chinese silk, SE Asian spi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3200400" y="3505320"/>
            <a:ext cx="5486040" cy="3579120"/>
            <a:chOff x="3200400" y="3505320"/>
            <a:chExt cx="5486040" cy="3579120"/>
          </a:xfrm>
        </p:grpSpPr>
        <p:pic>
          <p:nvPicPr>
            <p:cNvPr id="149" name="Picture 5" descr=""/>
            <p:cNvPicPr/>
            <p:nvPr/>
          </p:nvPicPr>
          <p:blipFill>
            <a:blip r:embed="rId1"/>
            <a:stretch/>
          </p:blipFill>
          <p:spPr>
            <a:xfrm>
              <a:off x="3308040" y="3505320"/>
              <a:ext cx="5378400" cy="345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6"/>
            <p:cNvSpPr/>
            <p:nvPr/>
          </p:nvSpPr>
          <p:spPr>
            <a:xfrm rot="16200000">
              <a:off x="1973520" y="5542920"/>
              <a:ext cx="27680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©2004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dsworth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, a division of Thomson Learning, Inc.  Thomson Learning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Times New Roman"/>
                </a:rPr>
                <a:t>™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is a trademark used herein under license.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7"/>
          <p:cNvSpPr/>
          <p:nvPr/>
        </p:nvSpPr>
        <p:spPr>
          <a:xfrm>
            <a:off x="457200" y="3962520"/>
            <a:ext cx="1981080" cy="1557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erchants relatively high cast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Impact"/>
              </a:rPr>
              <a:t>Religious - 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ism restored as central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keep social order in a time of decentralized politica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Impact"/>
              </a:rPr>
              <a:t>Social - 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 to caste superseded loyalty to any one rul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Suddra and Outcastes  - slavery was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s of women became more limited as agricultural technology developed (one code of law requested women to worship husbands as g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33520" y="5307120"/>
            <a:ext cx="8305560" cy="1191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ey Idea:  all classical societies (except perhaps Athenian) played down role of individual an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emphasized role of stat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group and family – few challenged this “natural ord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-289800"/>
            <a:ext cx="83818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Impact"/>
              </a:rPr>
              <a:t>Intellectual/Technological - 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ivers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ilt (4000 students in Nalanda – one of them Chinese Faxian) to teach religion, medicine and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edic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ligious prohibition on dissection – but still bone setting, plastic surgery, inoculation against small pox, sterilization of wou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hematics - algebra, ze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y have come from China)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i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e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Arabic”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able of sines, square roots, negative numbers, compute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alue of 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057400" y="5334120"/>
            <a:ext cx="53341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me technology developed for its own s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5-Point Star 1"/>
          <p:cNvSpPr/>
          <p:nvPr/>
        </p:nvSpPr>
        <p:spPr>
          <a:xfrm>
            <a:off x="0" y="358128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3" y="685798"/>
                </a:lnTo>
                <a:lnTo>
                  <a:pt x="342900" y="523901"/>
                </a:lnTo>
                <a:lnTo>
                  <a:pt x="130977" y="685798"/>
                </a:lnTo>
                <a:lnTo>
                  <a:pt x="211926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Impact"/>
              </a:rPr>
              <a:t>Art/Literature - 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quisite paintings (rock cut caves at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janta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ous for Buddhist 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s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alidas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mparable to Shakespe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The Ajanta Caves"/>
          <p:cNvPicPr/>
          <p:nvPr/>
        </p:nvPicPr>
        <p:blipFill>
          <a:blip r:embed="rId1"/>
          <a:stretch/>
        </p:blipFill>
        <p:spPr>
          <a:xfrm>
            <a:off x="5105520" y="0"/>
            <a:ext cx="4002120" cy="300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Ajanta and Ellora Caves Tours to India"/>
          <p:cNvPicPr/>
          <p:nvPr/>
        </p:nvPicPr>
        <p:blipFill>
          <a:blip r:embed="rId2"/>
          <a:stretch/>
        </p:blipFill>
        <p:spPr>
          <a:xfrm>
            <a:off x="5105520" y="2232000"/>
            <a:ext cx="40021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467840" cy="357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Bauhaus 93"/>
              </a:rPr>
              <a:t>Classical India</a:t>
            </a:r>
            <a:br>
              <a:rPr sz="6600"/>
            </a:br>
            <a:r>
              <a:rPr b="0" i="1" lang="en-US" sz="3600" spc="-1" strike="noStrike">
                <a:solidFill>
                  <a:srgbClr val="003300"/>
                </a:solidFill>
                <a:latin typeface="Arial Black"/>
              </a:rPr>
              <a:t>“Age of Empires”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Mauryan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110880"/>
            <a:ext cx="406404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Pre-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cal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– </a:t>
            </a:r>
            <a:br>
              <a:rPr sz="3600"/>
            </a:b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Harappan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33600"/>
            <a:ext cx="3886200" cy="5333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Ind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Mohenjo-Dar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urban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ra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Mesopotami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Strong Central Author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als, weights/meas., irrigation, theocrac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ocial Struc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relatively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galitar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ow decline – natural?, erosion?, salt in w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rya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in 1500 BC (rajahs, Sanskrit, iron) – some argue inva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09"/>
          <p:cNvPicPr/>
          <p:nvPr/>
        </p:nvPicPr>
        <p:blipFill>
          <a:blip r:embed="rId1"/>
          <a:stretch/>
        </p:blipFill>
        <p:spPr>
          <a:xfrm>
            <a:off x="4529160" y="3786120"/>
            <a:ext cx="4614840" cy="3081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Image result for map of indus river"/>
          <p:cNvPicPr/>
          <p:nvPr/>
        </p:nvPicPr>
        <p:blipFill>
          <a:blip r:embed="rId2"/>
          <a:stretch/>
        </p:blipFill>
        <p:spPr>
          <a:xfrm>
            <a:off x="4529160" y="111240"/>
            <a:ext cx="46148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46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ryan (Vedic Age)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ndu Text - Rigve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 dwellings as small h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ellings clustered inside wooden palisades – suffers in comparison with Mohenjo-Daro during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gve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ggests “Aryans” were light-skinned  favored over “dark-skinned” natives (their varna in caste)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rejudice in skin color still exists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induism and sanskr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roduced – see constant upheavals in early centuries, possibly because on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shatriy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arrior caste) could f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5076720" y="2057400"/>
          <a:ext cx="4067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2057400"/>
                    <a:ext cx="4067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On the Road to Empi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38480" cy="5638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-nomadic Aryans – by 600 BC divide into 16 states, enslaved Dravidians; some civil wars betwee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aja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i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BC becomes part of a Persian Empi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0-321 Alexander the Great of Greece conquers  and makes it part of his Hellenistic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1"/>
          <p:cNvSpPr/>
          <p:nvPr/>
        </p:nvSpPr>
        <p:spPr>
          <a:xfrm>
            <a:off x="4809960" y="990720"/>
            <a:ext cx="2819520" cy="1981080"/>
          </a:xfrm>
          <a:prstGeom prst="wedgeRoundRectCallout">
            <a:avLst>
              <a:gd name="adj1" fmla="val -64939"/>
              <a:gd name="adj2" fmla="val -23810"/>
              <a:gd name="adj3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ey Concep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at it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li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ragmen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  Thi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y 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uld caus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Geographic map of India"/>
          <p:cNvPicPr/>
          <p:nvPr/>
        </p:nvPicPr>
        <p:blipFill>
          <a:blip r:embed="rId1"/>
          <a:stretch/>
        </p:blipFill>
        <p:spPr>
          <a:xfrm>
            <a:off x="4648320" y="3200400"/>
            <a:ext cx="3508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6000"/>
            <a:ext cx="746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uryan Empire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321-185 B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Chandragupt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Maurya (321 BC) attacked Hellenistic rule, ended conflict by marrying the Hellenistic ruler’s dau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cultureheritageofmyindia.com/wp-content/uploads/2012/01/mauryan-map.gif"/>
          <p:cNvPicPr/>
          <p:nvPr/>
        </p:nvPicPr>
        <p:blipFill>
          <a:blip r:embed="rId1"/>
          <a:stretch/>
        </p:blipFill>
        <p:spPr>
          <a:xfrm>
            <a:off x="4114800" y="2209680"/>
            <a:ext cx="4040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51280" y="22824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100"/>
                </a:solidFill>
                <a:latin typeface="Arial Black"/>
              </a:rPr>
              <a:t>Chandra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81080" y="1218960"/>
            <a:ext cx="46479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– highl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po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yrant) but substantial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ureaucr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nspected with s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rm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/1000s of chariots and elephant-borne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ed used for public works but also luxury lifestyle, single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ed assassination -  only 4 ½ hours of sleep a day, changed bedroom daily, had food tasters, route of progress marked off with ropes – anyone who set foot inside would be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613613w"/>
          <p:cNvPicPr/>
          <p:nvPr/>
        </p:nvPicPr>
        <p:blipFill>
          <a:blip r:embed="rId1"/>
          <a:stretch/>
        </p:blipFill>
        <p:spPr>
          <a:xfrm>
            <a:off x="152280" y="152280"/>
            <a:ext cx="2619360" cy="3857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greetingindia.tripod.com/maurya.jpg"/>
          <p:cNvPicPr/>
          <p:nvPr/>
        </p:nvPicPr>
        <p:blipFill>
          <a:blip r:embed="rId2"/>
          <a:stretch/>
        </p:blipFill>
        <p:spPr>
          <a:xfrm>
            <a:off x="228600" y="4419720"/>
            <a:ext cx="26859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306000"/>
            <a:ext cx="746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handragupta’s Relig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ed from hinduism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in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xtreme passiveness) – would not kill anything or possess property – ended up starving himself to death in jainist monastery in 297 B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and"/>
          <p:cNvPicPr/>
          <p:nvPr/>
        </p:nvPicPr>
        <p:blipFill>
          <a:blip r:embed="rId1"/>
          <a:stretch/>
        </p:blipFill>
        <p:spPr>
          <a:xfrm>
            <a:off x="4648320" y="1828800"/>
            <a:ext cx="196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3"/>
          <p:cNvGrpSpPr/>
          <p:nvPr/>
        </p:nvGrpSpPr>
        <p:grpSpPr>
          <a:xfrm>
            <a:off x="4586400" y="1295280"/>
            <a:ext cx="4557600" cy="5354640"/>
            <a:chOff x="4586400" y="1295280"/>
            <a:chExt cx="4557600" cy="5354640"/>
          </a:xfrm>
        </p:grpSpPr>
        <p:pic>
          <p:nvPicPr>
            <p:cNvPr id="120" name="Picture 4" descr=""/>
            <p:cNvPicPr/>
            <p:nvPr/>
          </p:nvPicPr>
          <p:blipFill>
            <a:blip r:embed="rId1"/>
            <a:stretch/>
          </p:blipFill>
          <p:spPr>
            <a:xfrm>
              <a:off x="4738680" y="1295280"/>
              <a:ext cx="440532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5"/>
            <p:cNvSpPr/>
            <p:nvPr/>
          </p:nvSpPr>
          <p:spPr>
            <a:xfrm rot="16200000">
              <a:off x="2411280" y="4251600"/>
              <a:ext cx="4573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©2004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dsworth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, a division of Thomson Learning, Inc.  Thomson Learning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Times New Roman"/>
                </a:rPr>
                <a:t>™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is a trademark used herein under license.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6"/>
          <p:cNvSpPr/>
          <p:nvPr/>
        </p:nvSpPr>
        <p:spPr>
          <a:xfrm>
            <a:off x="228600" y="1313640"/>
            <a:ext cx="4419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ddhist after Battle o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Kaling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reat stone builder (first since Harappa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 with 4 lions in used as emblem of present government of I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t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issionar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 far as Egypt and Burma and Sri Lanka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change in Buddhism is that h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jects cas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ystem which will make him popular with lower cast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1494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Ashoka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(269-232 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asokapillar"/>
          <p:cNvPicPr/>
          <p:nvPr/>
        </p:nvPicPr>
        <p:blipFill>
          <a:blip r:embed="rId2"/>
          <a:stretch/>
        </p:blipFill>
        <p:spPr>
          <a:xfrm>
            <a:off x="4800600" y="-228600"/>
            <a:ext cx="44672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5-Point Star 1"/>
          <p:cNvSpPr/>
          <p:nvPr/>
        </p:nvSpPr>
        <p:spPr>
          <a:xfrm>
            <a:off x="228600" y="361800"/>
            <a:ext cx="1143000" cy="933480"/>
          </a:xfrm>
          <a:custGeom>
            <a:avLst/>
            <a:gdLst/>
            <a:ahLst/>
            <a:rect l="l" t="t" r="r" b="b"/>
            <a:pathLst>
              <a:path w="1143000" h="933450">
                <a:moveTo>
                  <a:pt x="1" y="356545"/>
                </a:moveTo>
                <a:lnTo>
                  <a:pt x="436590" y="356548"/>
                </a:lnTo>
                <a:lnTo>
                  <a:pt x="571500" y="0"/>
                </a:lnTo>
                <a:lnTo>
                  <a:pt x="706410" y="356548"/>
                </a:lnTo>
                <a:lnTo>
                  <a:pt x="1142999" y="356545"/>
                </a:lnTo>
                <a:lnTo>
                  <a:pt x="789790" y="576901"/>
                </a:lnTo>
                <a:lnTo>
                  <a:pt x="924706" y="933448"/>
                </a:lnTo>
                <a:lnTo>
                  <a:pt x="571500" y="713087"/>
                </a:lnTo>
                <a:lnTo>
                  <a:pt x="218294" y="933448"/>
                </a:lnTo>
                <a:lnTo>
                  <a:pt x="353210" y="576901"/>
                </a:lnTo>
                <a:lnTo>
                  <a:pt x="1" y="35654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4:51:31Z</dcterms:created>
  <dc:creator>Anne Jean Lyons</dc:creator>
  <dc:description/>
  <dc:language>en-US</dc:language>
  <cp:lastModifiedBy>Windows User</cp:lastModifiedBy>
  <dcterms:modified xsi:type="dcterms:W3CDTF">2016-10-20T15:09:03Z</dcterms:modified>
  <cp:revision>92</cp:revision>
  <dc:subject/>
  <dc:title>PowerPoint Presentation</dc:title>
</cp:coreProperties>
</file>